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55F-F2D0-45AD-A427-5C8DBD04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FF5-3C7F-40E5-8A37-02B678C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87C-5A41-43A6-833B-C2B7886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2F1-90D0-48CF-9528-D23FB158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A63-955D-49BB-B098-642EC48A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B06-1259-4E5E-A8EE-EC238948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65B-34D4-41F3-978E-73E4827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EE1-9E27-4655-8AAA-46E304E0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7C4-3907-490A-98E6-5CA8F69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75D-97CF-4856-9C96-A405AF0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59B-CE1F-4BC6-8084-254B928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845-BABB-4B3A-9193-5BBF0AE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4B82-4638-435C-BEBF-72F221B21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ungry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0001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th: Food versus our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wo forces are complimentary not adversa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priate allocation of land is most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797040"/>
            <a:ext cx="91440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52560"/>
            <a:ext cx="670572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eople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: 6/10 p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ze: 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et: second to wheat in protein content; popular in Africa and Asia; grows in arid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ghum: like millet (in West used as animal f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ava: low value, toxic if not prepare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590560" cy="243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3880" y="3008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i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81280" y="380880"/>
            <a:ext cx="4343400" cy="327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75280" y="392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77800" y="38466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g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2960" y="605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4600" y="6056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s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m: not as nutritious as the po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in: like a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bean: a legume native of Asian; high protein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807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77760"/>
            <a:ext cx="91440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th: Too many mouths to f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ownership; position of women; children are seen as asse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 women po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th: Nature is to b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ownership is a bigger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s and authoritarian governments are to bl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27120"/>
            <a:ext cx="8839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31:58Z</dcterms:created>
  <dc:creator>plouffeh</dc:creator>
  <dc:description/>
  <dc:language>en-US</dc:language>
  <cp:lastModifiedBy>Hugh</cp:lastModifiedBy>
  <dcterms:modified xsi:type="dcterms:W3CDTF">2008-01-13T23:17:31Z</dcterms:modified>
  <cp:revision>6</cp:revision>
  <dc:subject/>
  <dc:title>Hungry Because…</dc:title>
</cp:coreProperties>
</file>